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98E-2476-4C34-9499-8A2AEA47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2F33-6A1F-483E-BA4F-FC00962D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420-E5C4-4790-AA3A-201FD6F4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089-CC10-4995-A23B-0698C03B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531-C70B-434F-B864-E97EAE34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E3B-A98A-4761-B2FE-23686880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3D1-3DFF-4A2B-BC57-ABACA3B9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4BE-1D50-4659-A43D-ECED3F34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369-6CD0-4B16-BFCA-C9EF9833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F43-364F-4BF1-9F6E-1C859245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6B0-A1CF-407F-B604-EECBBE48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AA6-8DA9-4216-81FB-B1202588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604D-877E-47E4-9DB4-DF25643B8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инистерство образования и науки Республики Казахста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станайский государственный университет им. А.Байтурсыно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федра 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информационных систем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1785960"/>
            <a:ext cx="64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898989"/>
                </a:solidFill>
                <a:latin typeface="Calibri"/>
              </a:rPr>
              <a:t>Теория электроцеп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50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.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rcRect l="0" t="0" r="0" b="15135"/>
          <a:stretch/>
        </p:blipFill>
        <p:spPr>
          <a:xfrm>
            <a:off x="1785960" y="1143000"/>
            <a:ext cx="5286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0040" y="500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противление цепи состоит из сопротивления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следовательно с которым соединены два параллельных сопротивления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' 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"/>
              <p:cNvSpPr txBox="1"/>
              <p:nvPr/>
            </p:nvSpPr>
            <p:spPr>
              <a:xfrm>
                <a:off x="1714680" y="2928960"/>
                <a:ext cx="51433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Расчет сопротивления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Calibri"/>
              </a:rPr>
              <a:t>c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571680" y="1785960"/>
            <a:ext cx="7929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тивлен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перь соединены параллельно друг другу; сопротивл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ним включено последовательно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"/>
              <p:cNvSpPr txBox="1"/>
              <p:nvPr/>
            </p:nvSpPr>
            <p:spPr>
              <a:xfrm>
                <a:off x="2394000" y="3143160"/>
                <a:ext cx="41400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3"/>
          <p:cNvSpPr/>
          <p:nvPr/>
        </p:nvSpPr>
        <p:spPr>
          <a:xfrm>
            <a:off x="785880" y="1714680"/>
            <a:ext cx="7715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тивл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двух параллельно соединенных сопротивлени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в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1"/>
              <p:cNvSpPr txBox="1"/>
              <p:nvPr/>
            </p:nvSpPr>
            <p:spPr>
              <a:xfrm>
                <a:off x="2357280" y="2944800"/>
                <a:ext cx="38577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асчет сопротивления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Calibri"/>
              </a:rPr>
              <a:t>d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ивалентное сопротивление цепи ме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 точка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трех параллельно соединенных сопротивлени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может быть определено из фор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 (1.15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"/>
              <p:cNvSpPr txBox="1"/>
              <p:nvPr/>
            </p:nvSpPr>
            <p:spPr>
              <a:xfrm>
                <a:off x="1643040" y="3071880"/>
                <a:ext cx="62150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500040" y="1571760"/>
            <a:ext cx="82152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эквивалентное сопротивление цепи между точка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разомкнутом и замкнутом ключ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ис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3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ы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. При разомкнутом ключе заданная схема может быть изображена согласно рис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3,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2786040" y="545796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.13 (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2214720" y="830160"/>
            <a:ext cx="4500360" cy="4456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431240" y="17229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06040" y="359964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467240" y="556920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071800" y="857160"/>
            <a:ext cx="4357440" cy="42703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2571840" y="5600880"/>
            <a:ext cx="32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.13 (б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2876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скомое сопроти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"/>
              <p:cNvSpPr txBox="1"/>
              <p:nvPr/>
            </p:nvSpPr>
            <p:spPr>
              <a:xfrm>
                <a:off x="1285920" y="2271600"/>
                <a:ext cx="671508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7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500040" y="228600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 замкнутом ключе заданная схема может иметь также вид, изображенный на рис. 1.13,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Взаимная проводимость ветв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ная проводимость ветве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отношение ток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етви с номером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вызывающей его э.д.с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тв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 отсутствии других источников энергии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.3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1"/>
              <p:cNvSpPr txBox="1"/>
              <p:nvPr/>
            </p:nvSpPr>
            <p:spPr>
              <a:xfrm>
                <a:off x="3571920" y="2857680"/>
                <a:ext cx="150012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286000" y="857160"/>
            <a:ext cx="4357800" cy="4444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3571920" y="552924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.13 (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500040" y="736560"/>
            <a:ext cx="82152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тивление цеп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 сумме двух сопротивлени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мого из форму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3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"/>
              <p:cNvSpPr txBox="1"/>
              <p:nvPr/>
            </p:nvSpPr>
            <p:spPr>
              <a:xfrm>
                <a:off x="2786040" y="1214280"/>
                <a:ext cx="32655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3143160" y="3000240"/>
                <a:ext cx="21430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2714760" y="5357880"/>
                <a:ext cx="3214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42960" y="207180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сопротивление каждой из цепей (рис. 1.14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ежду зажимами 1-1' при холостом ходе (точк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и 2' разомкну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 коротком замыкании (точки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'  закорочены). Сопротивления в омах даны на схе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4"/>
          <p:cNvSpPr/>
          <p:nvPr/>
        </p:nvSpPr>
        <p:spPr>
          <a:xfrm>
            <a:off x="3857760" y="53578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14 (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2"/>
          <a:srcRect l="4655" t="0" r="0" b="0"/>
          <a:stretch/>
        </p:blipFill>
        <p:spPr>
          <a:xfrm>
            <a:off x="1714680" y="1258920"/>
            <a:ext cx="58575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rcRect l="0" t="22915" r="7861" b="0"/>
          <a:stretch/>
        </p:blipFill>
        <p:spPr>
          <a:xfrm>
            <a:off x="1857240" y="1500120"/>
            <a:ext cx="5857920" cy="28861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3857760" y="53578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14 (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2071800" y="928800"/>
            <a:ext cx="5000400" cy="40478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3857760" y="53578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14 (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2"/>
          <a:srcRect l="0" t="0" r="6336" b="0"/>
          <a:stretch/>
        </p:blipFill>
        <p:spPr>
          <a:xfrm>
            <a:off x="1928880" y="1071720"/>
            <a:ext cx="5286240" cy="40669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3857760" y="53578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14 (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760" y="2357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опротивление между зажима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хемы рис. 1.15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чения сопротивлений в омах даны на схе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4"/>
          <p:cNvSpPr/>
          <p:nvPr/>
        </p:nvSpPr>
        <p:spPr>
          <a:xfrm>
            <a:off x="3786120" y="53578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 15 (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2"/>
          <a:srcRect l="0" t="6268" r="0" b="0"/>
          <a:stretch/>
        </p:blipFill>
        <p:spPr>
          <a:xfrm>
            <a:off x="1857240" y="785880"/>
            <a:ext cx="54295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2"/>
          <a:srcRect l="0" t="0" r="2330" b="0"/>
          <a:stretch/>
        </p:blipFill>
        <p:spPr>
          <a:xfrm>
            <a:off x="1738440" y="1114560"/>
            <a:ext cx="5976720" cy="36716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3786120" y="53578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 15 (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6"/>
          <p:cNvSpPr/>
          <p:nvPr/>
        </p:nvSpPr>
        <p:spPr>
          <a:xfrm>
            <a:off x="571680" y="1714680"/>
            <a:ext cx="800100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о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ется единичной э.д.с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== 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заимная про­водимост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о равна ток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.д.с. некоторых ветвей цепи не равны нулю, взаимная проводимость ветве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т быть рассчитана по изменению тока ∆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тв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званному изменением э.д.с. 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 фор­му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.3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приведен в задаче 1.7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1"/>
              <p:cNvSpPr txBox="1"/>
              <p:nvPr/>
            </p:nvSpPr>
            <p:spPr>
              <a:xfrm>
                <a:off x="3786120" y="3643200"/>
                <a:ext cx="15001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Взаимная проводимость ветв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1714680" y="876240"/>
            <a:ext cx="6000480" cy="3838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3786120" y="53578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 15 (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данной схемы можно перейти к более простым схемам, изображенным на рис. 1.15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мое сопротив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"/>
              <p:cNvSpPr txBox="1"/>
              <p:nvPr/>
            </p:nvSpPr>
            <p:spPr>
              <a:xfrm>
                <a:off x="2643120" y="3286080"/>
                <a:ext cx="415620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50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2876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с э.д.с.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нутренним сопротивление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о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мкнут на внешнее сопротивление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ое меняется от нуля до бесконечности (рис. 1.16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)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ить в функции этого сопротивления: ток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напряжение на зажимах источник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мощность, отдаваемую источником во внешнюю цепь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неш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мощ­ность, затрачиваемую в самом источнике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общую мощност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бщ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к.п.д.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каком вне­шнем сопротивлении мощност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неш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дет максимальной? Чему оно равн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Содержимое 2"/>
          <p:cNvSpPr/>
          <p:nvPr/>
        </p:nvSpPr>
        <p:spPr>
          <a:xfrm>
            <a:off x="571680" y="58104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оны Ома и Кирхгофа. Баланс мощност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71680" y="20718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кривые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неш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н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бщ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η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уравнения и построить кривые зависимосте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неш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н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бщ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ункции ток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5"/>
          <p:cNvSpPr/>
          <p:nvPr/>
        </p:nvSpPr>
        <p:spPr>
          <a:xfrm>
            <a:off x="3653280" y="455940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 16 (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2"/>
          <a:stretch/>
        </p:blipFill>
        <p:spPr>
          <a:xfrm>
            <a:off x="2004840" y="961920"/>
            <a:ext cx="49960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1714680" y="642960"/>
            <a:ext cx="5786280" cy="48020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3653640" y="55594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 16 (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2"/>
          <a:srcRect l="0" t="0" r="0" b="7717"/>
          <a:stretch/>
        </p:blipFill>
        <p:spPr>
          <a:xfrm>
            <a:off x="2357280" y="1285920"/>
            <a:ext cx="4143600" cy="41432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7"/>
          <p:cNvSpPr/>
          <p:nvPr/>
        </p:nvSpPr>
        <p:spPr>
          <a:xfrm>
            <a:off x="3786120" y="56437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 16 (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2428920" y="1571760"/>
                <a:ext cx="42148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2357280" y="3071880"/>
                <a:ext cx="40719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2428920" y="4572000"/>
                <a:ext cx="38577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неш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885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1790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456440" y="245484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0" y="40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1214280" y="3286080"/>
                <a:ext cx="6286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1214280" y="1714680"/>
                <a:ext cx="64296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щ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1214280" y="4572000"/>
                <a:ext cx="62154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неш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бщ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71680" y="1785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 которо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пеш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дет максимально. Для этого вычислим производную о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неш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равняем ее нулю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"/>
              <p:cNvSpPr txBox="1"/>
              <p:nvPr/>
            </p:nvSpPr>
            <p:spPr>
              <a:xfrm>
                <a:off x="1857240" y="2928960"/>
                <a:ext cx="5176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неш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Взаимное сопротивление ветв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ное сопротивление ветвей 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отношение напряже­н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етв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величине создающего его ток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предпола­гается. что в ветв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 источник ток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се другие источники энергии в схеме отсутствуют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.3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приведен в задаче 1.7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"/>
              <p:cNvSpPr txBox="1"/>
              <p:nvPr/>
            </p:nvSpPr>
            <p:spPr>
              <a:xfrm>
                <a:off x="3714840" y="3286080"/>
                <a:ext cx="135720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3"/>
          <p:cNvSpPr/>
          <p:nvPr/>
        </p:nvSpPr>
        <p:spPr>
          <a:xfrm>
            <a:off x="428760" y="1285920"/>
            <a:ext cx="828648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в вторую производную, можем убедиться, что она отрицательна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оответствует условию максимума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найдем, чт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. е. при внешнем сопротивлении, равном внутреннему сопротивлению, мощность, поступающая во внешнюю цепь, максимальна. При этом по уравнению дл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.п.д. равен 0,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максимальной мощности, поступающей во внешнюю цепь пр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"/>
              <p:cNvSpPr txBox="1"/>
              <p:nvPr/>
            </p:nvSpPr>
            <p:spPr>
              <a:xfrm>
                <a:off x="2643120" y="3929040"/>
                <a:ext cx="335772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неш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0</m:t>
                    </m:r>
                    <m:r>
                      <m:rPr>
                        <m:lit/>
                        <m:nor/>
                      </m:rPr>
                      <m:t xml:space="preserve">в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2876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аписанным выше уравнениям на рис. 1.16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роены кривые. Искомые уравнения зависимостей в функции тока 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3357720" y="1214280"/>
                <a:ext cx="18572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2992320" y="1928880"/>
                <a:ext cx="26514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неш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3500280" y="2714760"/>
                <a:ext cx="14288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3508200" y="3500280"/>
                <a:ext cx="142092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щ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"/>
              <p:cNvSpPr txBox="1"/>
              <p:nvPr/>
            </p:nvSpPr>
            <p:spPr>
              <a:xfrm>
                <a:off x="3571920" y="4357800"/>
                <a:ext cx="12859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642960" y="531540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им уравнениям на рис. 1.16, в построены крив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3"/>
          <p:cNvSpPr/>
          <p:nvPr/>
        </p:nvSpPr>
        <p:spPr>
          <a:xfrm>
            <a:off x="857160" y="2208240"/>
            <a:ext cx="7500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разветвленной цепи рис. 1.17 э.д.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, Е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0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сопротивлен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,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ить напряжение между точка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2"/>
          <a:srcRect l="2742" t="0" r="2742" b="23370"/>
          <a:stretch/>
        </p:blipFill>
        <p:spPr>
          <a:xfrm>
            <a:off x="2143080" y="1000080"/>
            <a:ext cx="4929120" cy="42861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3650400" y="564372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 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3"/>
          <p:cNvSpPr/>
          <p:nvPr/>
        </p:nvSpPr>
        <p:spPr>
          <a:xfrm>
            <a:off x="714240" y="642960"/>
            <a:ext cx="757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714240" y="1714680"/>
            <a:ext cx="7572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вшись положительным направлением тока по часовой стрелке, на основании закона Ома [см. формулу (1.7)] 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"/>
              <p:cNvSpPr txBox="1"/>
              <p:nvPr/>
            </p:nvSpPr>
            <p:spPr>
              <a:xfrm>
                <a:off x="2143080" y="3571920"/>
                <a:ext cx="41436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3"/>
          <p:cNvSpPr/>
          <p:nvPr/>
        </p:nvSpPr>
        <p:spPr>
          <a:xfrm>
            <a:off x="785880" y="857160"/>
            <a:ext cx="7429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результат оказался положительным, то истинное направление тока совпадает с выбранным. Напряжение между точками а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найти по закону Ома [см. формулу (1.6)], примененному к участк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"/>
              <p:cNvSpPr txBox="1"/>
              <p:nvPr/>
            </p:nvSpPr>
            <p:spPr>
              <a:xfrm>
                <a:off x="3500280" y="2581200"/>
                <a:ext cx="17146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2428920" y="4329000"/>
                <a:ext cx="46432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714240" y="857160"/>
            <a:ext cx="757260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же результат можно получить, если применить ту же фор­мулу к участк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n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ледовательно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7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"/>
              <p:cNvSpPr txBox="1"/>
              <p:nvPr/>
            </p:nvSpPr>
            <p:spPr>
              <a:xfrm>
                <a:off x="3643200" y="1714680"/>
                <a:ext cx="15717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2643120" y="3429000"/>
                <a:ext cx="4143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в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меч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224316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а участке цепи, содержащем э.д.с. и сопротивление, ток и э.д.с. совпадают по направлению, то напряжение на зажимах участка меньше э.д.с. на величину падения напряжения в сопротивлении участка, а если направление тока противоположно направлению э.д.с., то напряжение на зажимах участка больше э.д.с. на величину падения напряжения в рассматриваемом участ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28760" y="22147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показание вольтметра (рис. 1.18), сопротивление которого весьма велико по сравнению 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2"/>
          <a:srcRect l="0" t="0" r="0" b="19734"/>
          <a:stretch/>
        </p:blipFill>
        <p:spPr>
          <a:xfrm>
            <a:off x="1785960" y="928800"/>
            <a:ext cx="5572080" cy="4179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3936240" y="53452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 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00040" y="7858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заим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нейной электрической цепи, составленной из сопротивлений, источников напряжения и источников то­ка, соответственные взаимные проводимост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l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. Из принципа взаимности следует: если э.д.с. Е, находящаяся в ветв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оль угодно сложной цепи, вызывает ток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ругой ветв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й же цепи, то при переносе этой э.д.с. в ветв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вызовет в ветв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же то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64304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график изменения потенциала вдоль цепи, изображен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. 1.19, а, при замкнутом и разомкнутом ключе, предполагая в обо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ях, что точк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землена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. В схеме найти то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отенцнальную точк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ить, потенциал какой точ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инять равным нулю, чтобы потенциалы всех ос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ек были положительны (при замкнутом ключ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1825560" y="1143000"/>
            <a:ext cx="5889600" cy="3357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4107240" y="49291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 19 (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4"/>
          <p:cNvSpPr/>
          <p:nvPr/>
        </p:nvSpPr>
        <p:spPr>
          <a:xfrm>
            <a:off x="3802680" y="52149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 19 (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1" descr=""/>
          <p:cNvPicPr/>
          <p:nvPr/>
        </p:nvPicPr>
        <p:blipFill>
          <a:blip r:embed="rId2"/>
          <a:stretch/>
        </p:blipFill>
        <p:spPr>
          <a:xfrm>
            <a:off x="1500120" y="1643040"/>
            <a:ext cx="6276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2"/>
          <a:srcRect l="0" t="77118" r="0" b="0"/>
          <a:stretch/>
        </p:blipFill>
        <p:spPr>
          <a:xfrm>
            <a:off x="1528920" y="1785960"/>
            <a:ext cx="6114960" cy="17143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3802680" y="52149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 19 (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217152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д.с. равны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= 2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5в, Е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нешние сопротивления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4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нут­ренние сопротивления источников электрической энергии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=2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шение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5696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люч замкнут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давшись положительным нап­равлением тока по часовой стрелке, на основании закона Ома [см. фор­мулу (1.7)] найд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"/>
              <p:cNvSpPr txBox="1"/>
              <p:nvPr/>
            </p:nvSpPr>
            <p:spPr>
              <a:xfrm>
                <a:off x="1857240" y="3286080"/>
                <a:ext cx="542952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012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ясь формулами (1.5) и (1.6), вычислим потенциалы всех точек, обходя контур тока по часовой стрелк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10"/>
              <p:cNvSpPr txBox="1"/>
              <p:nvPr/>
            </p:nvSpPr>
            <p:spPr>
              <a:xfrm>
                <a:off x="4000680" y="1357200"/>
                <a:ext cx="8571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2768760" y="1785960"/>
                <a:ext cx="3446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в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8"/>
              <p:cNvSpPr txBox="1"/>
              <p:nvPr/>
            </p:nvSpPr>
            <p:spPr>
              <a:xfrm>
                <a:off x="2286000" y="2428920"/>
                <a:ext cx="42861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в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2500200" y="3000240"/>
                <a:ext cx="39117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в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6"/>
              <p:cNvSpPr txBox="1"/>
              <p:nvPr/>
            </p:nvSpPr>
            <p:spPr>
              <a:xfrm>
                <a:off x="2428920" y="3571920"/>
                <a:ext cx="4611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в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5"/>
              <p:cNvSpPr txBox="1"/>
              <p:nvPr/>
            </p:nvSpPr>
            <p:spPr>
              <a:xfrm>
                <a:off x="2500200" y="4143240"/>
                <a:ext cx="4214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в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0" y="41338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3"/>
              <p:cNvSpPr txBox="1"/>
              <p:nvPr/>
            </p:nvSpPr>
            <p:spPr>
              <a:xfrm>
                <a:off x="2286000" y="4786200"/>
                <a:ext cx="502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в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2500200" y="5429160"/>
                <a:ext cx="42148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в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"/>
              <p:cNvSpPr txBox="1"/>
              <p:nvPr/>
            </p:nvSpPr>
            <p:spPr>
              <a:xfrm>
                <a:off x="2500200" y="6000840"/>
                <a:ext cx="42148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0" y="3438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1362240" y="421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0" y="4352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0" y="504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0" y="573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546120"/>
            <a:ext cx="82296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. 1.19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ерчен потенциальный график. По оси абсцисс отложены величины сопротивлений отдельных участков цепи, а по оси ординат - значения потенциалов в отдельных точках цеп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ем точку, равнопотенциальную точк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 графика видно, что искомая точк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ходится на участке сопротивлен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g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 как в этой точке прямая падения потенциалов пересекает ось абсцисс, потенциал которой равен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 Обозначая участок сопро­тивления между точкам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 через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меняя к участк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f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у закона Ома (1.6) и учитывая, чт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φ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.е. точк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ходится на середине сопротивлен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"/>
              <p:cNvSpPr txBox="1"/>
              <p:nvPr/>
            </p:nvSpPr>
            <p:spPr>
              <a:xfrm>
                <a:off x="3000240" y="3643200"/>
                <a:ext cx="28576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m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3643200" y="4643280"/>
                <a:ext cx="15717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m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21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хождения точки, потенциал которой следует принять рав­ным нулю при условии, чтобы потенциалы всех остальных точек были положительны, следует обратиться к потенциальному графику, из которого видно, что такой точкой является точк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6170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юч разомкну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ка в цепи нет, поэтому точк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отенциальны, т. е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φ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 Потенциал точк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вышает потенциал точ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личину э.д.с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kk-K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рассуж­дая аналогично, найде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полученные результаты, на рис. 1.19,</a:t>
            </a:r>
            <a:r>
              <a:rPr b="0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роен гра­фик изменения потенциала при разомкнутом ключ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6"/>
              <p:cNvSpPr txBox="1"/>
              <p:nvPr/>
            </p:nvSpPr>
            <p:spPr>
              <a:xfrm>
                <a:off x="1643040" y="2286000"/>
                <a:ext cx="18399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в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714680" y="2928960"/>
                <a:ext cx="1928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в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0" name="Object 4"/>
          <p:cNvGraphicFramePr/>
          <p:nvPr/>
        </p:nvGraphicFramePr>
        <p:xfrm>
          <a:off x="1714680" y="3500280"/>
          <a:ext cx="1731960" cy="4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4680" y="3500280"/>
                    <a:ext cx="1731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4951440" y="2214720"/>
                <a:ext cx="2263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в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4929120" y="278604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в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"/>
              <p:cNvSpPr txBox="1"/>
              <p:nvPr/>
            </p:nvSpPr>
            <p:spPr>
              <a:xfrm>
                <a:off x="4929120" y="3429000"/>
                <a:ext cx="3429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138560" y="532440"/>
            <a:ext cx="89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3681360" y="7704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0" y="116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3798000" y="1703880"/>
            <a:ext cx="15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4255200" y="1932480"/>
            <a:ext cx="6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00040" y="71388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нейные соотно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менении параметра одного из элементов линейной электрической цепи (одного сопротивления или одной э.д.с., или тока одного из источников тока) связь между лю­быми двумя напряжениям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юбыми двумя токам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ежду любым токо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извольным напряжение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линейной с постоянными коэффициента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 д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(1.3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приведен в задаче 1.7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3143160" y="3500280"/>
                <a:ext cx="19386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3143160" y="4071960"/>
                <a:ext cx="1857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"/>
              <p:cNvSpPr txBox="1"/>
              <p:nvPr/>
            </p:nvSpPr>
            <p:spPr>
              <a:xfrm>
                <a:off x="3143160" y="4643280"/>
                <a:ext cx="17146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Rectangle 5"/>
          <p:cNvSpPr/>
          <p:nvPr/>
        </p:nvSpPr>
        <p:spPr>
          <a:xfrm>
            <a:off x="44928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218880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хемы р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1.20 построить потенциальные график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fghk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зомкнутом и замкнутом ключ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4786200" cy="38034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3936240" y="53578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00040" y="2499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токи в ветвях цепи рис. 1.21, а и показание вольтметра, включенного между точка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я, что его сопротивление во много раз превышает сопротивление каждого из элементов цеп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2357280" y="857160"/>
            <a:ext cx="4071960" cy="44499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3840840" y="55594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 21 (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357280" y="785880"/>
            <a:ext cx="4357800" cy="45892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5"/>
          <p:cNvSpPr/>
          <p:nvPr/>
        </p:nvSpPr>
        <p:spPr>
          <a:xfrm>
            <a:off x="3840840" y="56307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ис. 1. 21 (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22856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о показание амперметра, включенного между точкам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противление которого считать равным нулю? Сопротивления элементов цепи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иложенное к ней напряж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0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 показания вольтметра. Из условия вытекает, что его включение не оказывает влияния на распределение токов в цепи. Для расчета токов сначала определяем эквивалентное сопротив­ление всей цепи рис. 1.2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разветвленной части цепи протекает 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"/>
              <p:cNvSpPr txBox="1"/>
              <p:nvPr/>
            </p:nvSpPr>
            <p:spPr>
              <a:xfrm>
                <a:off x="2143080" y="3214800"/>
                <a:ext cx="50659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3"/>
              <p:cNvSpPr txBox="1"/>
              <p:nvPr/>
            </p:nvSpPr>
            <p:spPr>
              <a:xfrm>
                <a:off x="3500280" y="5000760"/>
                <a:ext cx="22860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00040" y="7142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и, протекающие через сопротивлен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жно найти различными способ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параллельных ветвях токи распределяются обратно пропор­ционально их сопротивлениям [см. формулу (1.19)]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"/>
              <p:cNvSpPr txBox="1"/>
              <p:nvPr/>
            </p:nvSpPr>
            <p:spPr>
              <a:xfrm>
                <a:off x="2935440" y="2500200"/>
                <a:ext cx="3351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a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3"/>
              <p:cNvSpPr txBox="1"/>
              <p:nvPr/>
            </p:nvSpPr>
            <p:spPr>
              <a:xfrm>
                <a:off x="2890800" y="3571920"/>
                <a:ext cx="3324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8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71424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дем напряжение на зажимах параллельных ветве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ки в ветвях с сопротивлениями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в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"/>
              <p:cNvSpPr txBox="1"/>
              <p:nvPr/>
            </p:nvSpPr>
            <p:spPr>
              <a:xfrm>
                <a:off x="1714680" y="1571760"/>
                <a:ext cx="52146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2928960" y="3214800"/>
                <a:ext cx="24462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a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6"/>
              <p:cNvSpPr txBox="1"/>
              <p:nvPr/>
            </p:nvSpPr>
            <p:spPr>
              <a:xfrm>
                <a:off x="3071880" y="4357800"/>
                <a:ext cx="21430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8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яжение на зажимах параллельных ветвей может быть найде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зность между приложенным напряжением и падением напря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противлени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ем показание вольтметра, равное напряжению между точками с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"/>
              <p:cNvSpPr txBox="1"/>
              <p:nvPr/>
            </p:nvSpPr>
            <p:spPr>
              <a:xfrm>
                <a:off x="1285920" y="3786120"/>
                <a:ext cx="6572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,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t xml:space="preserve">1,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71680" y="4287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ланс мощност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й замкнутой электрической цепи сумма мощност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звиваемых источниками электрической энер­гии, равна сумме мощност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сходуемых в приемниках энерг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.3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3286080" y="2857680"/>
                <a:ext cx="1797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И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"/>
              <p:cNvSpPr txBox="1"/>
              <p:nvPr/>
            </p:nvSpPr>
            <p:spPr>
              <a:xfrm>
                <a:off x="2786040" y="4429080"/>
                <a:ext cx="34257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5000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ец, вычислим ток, проходящий через амперметр; он равен току короткого замыкан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ис. 1.21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Для его нахождения вычислим то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"/>
              <p:cNvSpPr txBox="1"/>
              <p:nvPr/>
            </p:nvSpPr>
            <p:spPr>
              <a:xfrm>
                <a:off x="2874960" y="1643040"/>
                <a:ext cx="32688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  <m:r>
                      <m:t xml:space="preserve">a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3071880" y="3000240"/>
                <a:ext cx="2428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  <m:r>
                      <m:t xml:space="preserve">a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3214800" y="4214880"/>
                <a:ext cx="24080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  <m:r>
                      <m:t xml:space="preserve">a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2876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мый ток, проходящий через амперметр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1"/>
              <p:cNvSpPr txBox="1"/>
              <p:nvPr/>
            </p:nvSpPr>
            <p:spPr>
              <a:xfrm>
                <a:off x="2786040" y="2428920"/>
                <a:ext cx="40006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428760" y="642960"/>
            <a:ext cx="828648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∑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гебраическая сумма; здесь положительны те из слагаемых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для которых направления действия э.д.с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соответствующего ток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падают, в противном случа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слагаемое отрицательн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∑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 алгебраическая сумма; здесь положительны те из слагаемых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для которых напряжение на источнике ток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н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определяется расчетом цепи внешней по от­ношению 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зажимам источника тока) и его то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падают п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направлению (как, например, на р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1.3), в противном случа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слагаемое отрицатель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∑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арифметическая сумма; здесь должны быть учтены как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внешние сопротивления, так и сопротивления са­мих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источников энер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приведены в задачах 1.21, 1.32, 1.34 и 1.4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Расчет эквивалентных сопротивл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и ри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2 найти эквивалентные сопротивления между зажима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ение. Расчет сопротивле­ния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Эквивалентное сопротивле­ние соединенных параллельно сопро­тивлений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kk-KZ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йдем по форму­ле (1.16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о соединено последовательно с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Их общее сопротив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' = =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4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= 5+ 5 = 10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"/>
              <p:cNvSpPr txBox="1"/>
              <p:nvPr/>
            </p:nvSpPr>
            <p:spPr>
              <a:xfrm>
                <a:off x="3143160" y="3857760"/>
                <a:ext cx="29289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01:26:00Z</dcterms:created>
  <dc:creator>Админ</dc:creator>
  <dc:description/>
  <dc:language>en-US</dc:language>
  <cp:lastModifiedBy>student</cp:lastModifiedBy>
  <dcterms:modified xsi:type="dcterms:W3CDTF">2014-06-07T06:39:55Z</dcterms:modified>
  <cp:revision>53</cp:revision>
  <dc:subject/>
  <dc:title>Министерство образования и науки Республики Казахстан Костанайский государственный университет им. А.Байтурсынова Кафедра информационных систем</dc:title>
</cp:coreProperties>
</file>